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634C-2DC6-4790-BBEC-1585BAF8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3D3B-DAE6-42EC-9ED6-1A052BFC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17825-51AC-4D76-8B54-F11081D3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ADDF9D-40AB-46C6-9043-C6F2AD67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C0C91-FD86-4D51-AEA4-B75E98ED7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BBF4E-27DF-4955-8B40-067CFCB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42B663-89E0-47E7-A065-1863B3F39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1B307-E91B-4C7B-A3D1-8337CA77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3B5E2-C2D4-47A3-9FA3-36AFA0D04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21871-112D-46AD-A3FE-B688C83B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9F8D90-DFA5-4F39-8AA6-9FE5A64F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1FB5E-4A79-4445-847D-36222ADC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B26-50BC-41EF-A536-428CAAAF8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992C5-1DBD-4315-9D6B-43E618BBC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B8507-616E-47DF-AA2A-590C7172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28631-46EF-40DA-8FF0-7526854F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D15E6B-6426-41E2-ABBC-7EE66531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43FBF9-BEF3-4925-BC92-AC20C970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28A0F7-828B-48BC-8D2A-7C203291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C41DB-466B-46BA-B575-C44C984D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7FB82-CEC3-4721-9214-388BDD03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06BD28-CF87-4A5A-BDE9-43C25A36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8D1FF-55B2-4A1F-9E0B-308DCDAF2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6D4-AC0B-4075-A6BC-440AABAF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28D3F-7DAC-4A48-B052-C8522FDB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1BD7FC-C184-47B2-BEB2-18FAD8506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CBCDE-6EE4-4B99-B2B5-BA1426017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7CFAA9-C21A-4D06-B145-C951E632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DB3EC-379F-4870-9F46-8676175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6E8BB-051B-4D14-BCAA-BA047B31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33D4C-0EBE-430A-B368-0B2D990CD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2FC355-12A7-4E46-9F8D-A50D6D4C5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39C21-DEDC-4B5D-B53E-1F300CF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2C3EE-F3B0-4889-84D0-61A7C77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CB3A-3DD8-4E97-A18B-8994E6E2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E07F1-B59F-4BDD-88BB-11BA418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EA6D74-0D07-4AC5-BD18-29E72EFD4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DB120F-BCAA-4D25-BA11-7139330E8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EB2D5-6586-4BA4-A3B6-10A06DAA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428C6-AF05-4490-9B67-2C4051F0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DF2147-7370-447D-94DE-FB2FB3A7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4EA9CD-32EA-4426-ADBD-FCA58329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40B5FD-E028-4CCA-904E-63650CCF8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3705F-8C91-4243-A37A-FCD2EEE5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FCEAE-DFEF-4D4F-99A2-B86AA6F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AF470-D84B-40BC-95EB-E971C97D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AE8D7-A061-4D61-B717-47E4C31DC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88B444-851B-451F-9EFB-43EFAC1B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A0BE31-1F82-47F3-AEF0-66CE96A4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A4957-F641-4336-8C63-F92C485F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F9280-5B5A-4CC3-A4C3-D297893F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CAF12E-9C2F-45D3-A91C-BC448AF05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7DD17-040D-4F9C-89D0-A49EB400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ED455-AA35-4C88-86FE-0010E8E4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8393E-51CE-454F-8B0B-45D4D903B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6839B8-3182-4C1A-AB79-C00CCE2E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99D5-8BAA-4CDF-9744-F932557C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9CA239-1193-4C6D-9A7F-B3A47DA1B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F4CC8-8472-4B7A-A117-15564C2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B96545-7EA2-42D3-B813-D4AA40CF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56B1E8-EB65-40E8-B416-A4B03DB0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17B360-25F0-44D4-8E6C-E729BA65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10DBF9-090B-4EB9-8FC1-9B43367B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B191B-AFBC-4A50-A766-33EE15DE2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21B35B-8576-46A8-95BD-8965B491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72B8EF-923C-4987-BEED-8BB607A6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F2CAE7-8E61-4E47-AD6C-13342D5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F6965-C151-48C2-B8D0-D469E0A8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D67B56-69E5-42AD-A905-7E84724E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10A036-2046-4F24-B25A-35627D28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F3C93F-50C2-43F0-86FE-E627E6BD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27E671-1829-438E-9DD3-8D8C34A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AD408-67FA-47C6-9A76-CC0E2871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B8EF5E-AEA4-446B-AFED-17FA73C7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CAACC-0179-4EAF-8624-DD43DB7A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E57AA8-8AE2-44F2-9800-A56A8165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64CEEA-7033-4E6D-AFBA-BF26102D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3286EE-9E4A-4899-9EE3-EB5861BB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E579-DE44-4572-84A4-9C4B1DB38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C777E-3246-4D97-A83F-BD65880E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37F75-41D5-4FD7-BEA4-CA6E6BA5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3EBADC-E571-46E5-92EA-89AE2568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C4F064-245E-4753-8B21-71DED31C6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FDC9E3-FFCA-44AD-9F41-DE09A8AB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C82C71-6D2C-44E3-B5DD-96385E80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1846D1-D3FB-4556-A729-A02E0F54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84E1FA-F17B-4B43-AFEA-E161E675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F377C-14C4-4098-B108-20C6DAC5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0E0041-AD0F-49B6-A014-08E747BF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6CBB-915C-4AAE-A172-20257E864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B012BC-47B3-4A54-AE13-F5D83C5D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87394F-5DFC-4428-B495-13BE8E06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3F1505-01F3-492A-B413-6E8C53D7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CF6C41-0431-400A-87BE-9F3DC7E9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AF3581-874D-4671-8AB3-4300B3E9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C38C8C-3AC6-4183-9F7F-DFEBF726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C06791-D0F6-4FB0-BB4B-889A91BB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AB920-70E7-43D3-8FA3-A9D6F136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0B575A-5355-40A8-AB48-3C220A3D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48BA97-465A-4C9C-BC5C-4FEBF61F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8108-55AD-4DD8-B01B-7E3C85C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BA6668-8872-42D1-B2FB-23BDE88A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E1B47-B9FB-4BA9-A365-0D930B487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FCA8CE-DE10-46CF-A8B9-C9C6E205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65467-506C-4DBE-B1F5-ABCCEABEB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3B6E59-5531-4B81-8B27-480D23E5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D0B150-EC91-4F0D-9A83-CA6B6179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2DBB7E-E6A7-402F-A41B-E5B63253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9386A6-067E-4880-8600-38DEBF053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5E03B7-B72E-44A8-A92F-98681C808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09C50F-3E8A-4ACD-880B-8AA2FA6DA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210-1ECF-4361-8AE9-33FFEFB7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89A6-246C-40A2-AC1F-B4F1FFB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2D5A8-223E-4269-8067-CD3339CF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B71F6D-79A1-4CB4-8E3A-C01BDD44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7DF6B9-0498-4830-87F9-7C46AF13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921116-157C-4311-9373-49563D913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2B4618-CE45-4282-A8BD-3503F0BD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493AAF-ED0A-4624-858F-B59E27C5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AE7E06-AFC7-4A9F-B1B8-5645044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FF6D4D-3714-4030-BF23-17D92F55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ADC446-F7AB-4857-8ADE-11761DD6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73A555-1DEA-44C8-BDAD-D371F1D04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C18-565A-4D64-BF2D-18D66117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3C2C7E-BEEE-4D9F-A8A9-ABCB9840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0D38538-5C91-40A2-97CB-1FDD8D85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F59BC-117B-4526-8846-9C6312C5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DA66A-1598-46DE-A624-30C00CB8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6FFD08-7599-460D-B2C4-1AAB73BE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ACEBCB-EB99-402D-BEFA-A24C8F5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7BDCA-69E4-4F32-8C67-17B2F139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9F105C-9263-4892-ADD4-ADD0B4B0B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2E963-0803-47F7-9B35-899E0521D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CA2CAC-D97D-4972-A337-8DC5C4D0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9BB9E-7F6F-4C13-A04E-05552CEB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5E5D70-8974-4A29-AACE-8714E5117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636136-F8C8-4559-AB99-1C11590A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E43D07-4549-4046-B119-2FE16FD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9227E6-DA7E-41B5-937D-37F1669E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30E66-CFDA-4B6C-925A-C14CFE2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DAA67-584C-49D3-A1EA-BAA807FD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A0C95B-C23C-4E03-B6E7-1EA71E44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78BBEB-B154-449B-95FD-DA80FE808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72A63-978B-40BE-9616-CD7C7E7FD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5BE42-DCA2-4B6E-B596-BC3A20BD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29E3-F987-47F0-A9EC-82C91275D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2F868-0E1E-4122-A93C-7F365BE46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969ABE-EAFE-4E8E-ACAB-E17168FA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AAF70D-B0C1-4651-A795-0D0D2694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48E63A-8F5A-4654-B25C-927974C7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57487D-0951-496F-A4C5-656CEA328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028EA0-2963-4042-8BE3-56872F0D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7BDF094-B158-4536-A7CC-FCC9D1AB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13EC1-AA62-45C5-BCEA-D25F891A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D8CF83-8D58-4EBD-9B83-759BDC4B1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320BBC-90EE-4C9D-B067-DB23F9383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C32D9-9BE6-473F-892D-470ABDACE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7C032C-6395-44EA-B3E4-D6772796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7EA69C-5405-47AC-9CB5-FABA848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52A657-35C5-4ACD-8A91-C2296B96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9F5A91-1683-4EB0-9F89-27FE6CAF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E8CDE3-89D8-44FC-954F-C82BF593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45EC511-DA13-4693-9860-C076FF51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84D36-C669-4D00-98A4-A5BA23668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BF4E76-A013-4134-9152-D0B6D4A3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916933-ECEA-49D3-8BF0-26C25B7E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D8BD3-6B5C-4076-AD39-902A6016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17EC-5536-4467-9378-B56FD864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655F9E-CFAC-44AE-A907-9E1ABA93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A5F9D7-C16C-4659-9EA2-0B3E15F1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BD7235-774D-4B20-AAEB-14764174D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B8223-9718-4A72-8C76-DB85CA48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27439-C398-482D-95DB-12ECD5CB3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1CFEB-121F-414E-B5DF-5487C6E6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DFD7-FF27-44D3-9F9A-8FD9DA06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58D4-447A-41A9-9260-1259A16B6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2E95-0092-424A-BB89-8AB50EE6C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9504B-1AB6-4833-B56B-4D15EF81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2C65-7F2E-4704-ABA5-173AE2B12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95DC56-E5F3-4CE4-8E6D-4A26202D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57232-FCCB-417E-8546-C0101D30A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4C3C5-0F1A-4D34-983F-CE7C47897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EA2A2-DE74-45CD-A599-64FCD734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26A5D-2BE4-4692-88EB-3151B89B1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BA33F-6DF0-445C-9CD0-9BC1D81A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935EA-404F-4611-BA50-BA4BFDC2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8802-06C6-4B56-A6EE-CA5C7FBD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38002-4357-4D2B-B385-592BFE8B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B8DAC-F44E-435B-B73F-ADFD2036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D3369-F2BE-4BF7-84B1-4805005E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5045D-72EA-4281-B42C-737C4F43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ACF9-0CE8-4ECB-8CBD-CB6FA9B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A63A0-2A5D-4E02-9A89-8D726708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4E4E9-E9EE-4106-BEF8-C7339D2F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B255C-B0AE-4C27-A522-F6D242EE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A37D8-913D-4BA1-9C44-85513A3C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96792-237F-4443-BDB1-7A02AEC8C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D91-76A3-4479-A7C9-8B260CD6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76168-663A-4049-9F66-872B69982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30653-104D-4248-9D37-D126DEC3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22B63-6BE5-44BC-913F-288923884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A860B8-7A91-48CD-8873-5F36CB08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CBB118-542A-40B7-931C-D2D69393C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55A45-FC62-4B6B-A741-0934005F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0F09C-4BE5-48B7-800E-A6E9C0EA9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18C2C-42CB-49DE-A5B5-15B60C44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8C8968-798C-4C7D-8796-09B6953A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7F8B2-197C-4C6F-B832-9CB58CA4E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02EA-64F3-4931-86DD-D96025FC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C8CB-8810-45BE-85F3-0CE91B37F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B290B-30A8-48A6-9CF2-AC744977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07AAE-DDAB-457A-BDA7-C09F2741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AFC5D3-2DF3-4D18-8CE5-9D81C7EC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34D5B-5ADB-4966-A6A6-06607D14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0D7F-D6D7-47BB-8F87-197E6EEE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03B978-6526-4E5D-9A67-5E60334B5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5D93D7-9C08-4C6B-9AB5-1CCF7934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866D-F647-4126-B8FD-3853324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F7965-69E1-49E7-B9BD-16C7FD06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1ED9-E4F8-47A6-82F0-475B4A8B2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9924D-F77B-4C19-B4EC-7A5139621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656D0-06CA-46E2-8E61-BC88F1FA4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757009-9C84-4808-BD8B-5882FCC8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22EF3-FC7E-45C3-BC10-8E3726F4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38A85-EBA5-42EF-8767-FDDA305E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5A5E-41AC-4421-A485-59A3DE5B6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55873-C0BF-4719-AE78-2B02D97E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6816BA-817C-45B3-9F2F-B17615404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555D3-9D2A-4ECF-99F7-5450395A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DE6BE0-063A-47DD-9F35-B0057B19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BAC4-5C67-4DC9-9B45-A617EF0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BF67C-C319-4D58-8491-267580C55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ACCED-E0AF-465A-8EFD-819AABB49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81BAA-B16F-49EB-A456-6B1F8FA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3B351-4B44-4BCB-870C-9A5CAAC2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53AC6-BC3A-4A1B-BB8E-9A54E4148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2206F1-25DF-4B75-BD04-AE0751FC9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98DCA-91A3-4DC4-B0BD-501F7BE8F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25B7C-F8C4-4157-8DDF-0206404C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42EEF-834A-42CB-BA87-430EE867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18268-4A4D-4F5F-ABA9-FFB8CDF7F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FF27-55FD-4194-96F1-5AEB3F31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64E0B-C762-4CEF-9680-2D6AE8CE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FCB47-6974-4983-BC16-8259E18A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F1AAD-84EA-45D2-9D58-CDFE1495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A6DFA-1986-4DA6-9ED3-7208095E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E3BE2-7591-42DC-A52F-0399E104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77F9B-1C17-4BAF-B74F-A901249F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C78487-A02E-485B-B387-34E71CDA2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C5DA5-B1E2-47B1-8116-43EDBD137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E2CE7-E8AB-45EC-A855-621AB013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37DCD6-9C48-4179-B7DF-F524EFB3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C91B-4691-4083-BB03-388B640A0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D771-FCD9-4077-A6D9-C13F7AE9F7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D12F-602D-47D8-9991-6E0FBF8F09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B7CB-7076-4746-9195-7E04A6FFD3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883AC-FFAD-4353-9D69-EDCD51E582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D0F-05D1-47E5-A49E-33875AE8C9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77BAD-FF6D-4096-AC7B-36CAD1BE0E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D1DD-0EE7-4E69-9203-1D01F624DD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B871-4C08-4944-A9FE-A7EB0B65A4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F976-4DD4-47DA-9CB3-5CFDF3CAA6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0B4-F4BE-49CA-87E6-955BEA0B9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8EA61-FC21-47E7-93DC-9D303FF3E7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7E4D-FDCE-47F6-8426-B9414B70C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8D25-BCF5-4CB6-9B5F-A65B2763F8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9ED7-BA2C-4037-BD3B-5C9EC91F0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FFD1-2082-42B6-8C62-691C6285C6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225-3823-41CB-A408-D197454F61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ADCF-057F-4989-97F2-32F9F8F58D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8504-EB2D-4FDD-8C11-451F63BD3C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33CA-25B7-4ABD-B477-55B569FA3F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F4EB5-1BDA-44B0-8BC8-CE8ACEEA6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D2B8-866B-432F-91B4-4F463B0DF6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94AA-79F8-4CD5-A1FE-062017A153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71E57-770C-4081-AEE8-73BD827532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5C6E-3CBF-4AB0-95C1-926BA895B9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083AC-0E49-4FC6-9E7C-5C3C74BA6A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5526-0A72-4B2B-A904-FC027CB7C8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C23F7-8580-4E72-83B2-BB7D444AA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9809-FBD0-4955-AC60-AC9F63D8AEC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266E-5C78-459F-A7DC-43746B35C8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A16F-C72C-4DFD-B9E4-0395860AC6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F261-5D36-41CD-B993-B6C2EE98C39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AB39-B237-4E4C-BA16-D781567B65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5671-0C08-4AC9-823F-CF91E591F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B0C0-E579-4B07-A380-3972355131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47E-51CD-4961-A463-7C2EE1C1A9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3F24-BD2A-4DEF-B7B9-5F2A38C4A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BD35-241F-4E3F-ACC2-0D20ACC32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4234-8CF4-4D8A-A00D-3F4644DE2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1975-8AEB-4DC7-98C0-079904D39FB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1471680" y="2976480"/>
            <a:ext cx="620064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28680" y="890640"/>
            <a:ext cx="8485200" cy="50767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3"/>
          <a:stretch/>
        </p:blipFill>
        <p:spPr>
          <a:xfrm>
            <a:off x="147636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5"/>
          <a:stretch/>
        </p:blipFill>
        <p:spPr>
          <a:xfrm>
            <a:off x="1403280" y="378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6"/>
          <a:stretch/>
        </p:blipFill>
        <p:spPr>
          <a:xfrm>
            <a:off x="1403280" y="47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7"/>
          <a:stretch/>
        </p:blipFill>
        <p:spPr>
          <a:xfrm>
            <a:off x="1403280" y="558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" descr=""/>
          <p:cNvPicPr/>
          <p:nvPr/>
        </p:nvPicPr>
        <p:blipFill>
          <a:blip r:embed="rId1"/>
          <a:stretch/>
        </p:blipFill>
        <p:spPr>
          <a:xfrm>
            <a:off x="-3240" y="1076400"/>
            <a:ext cx="9151920" cy="470520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778040" y="5300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594036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1" name="图片 1" descr=""/>
          <p:cNvPicPr/>
          <p:nvPr/>
        </p:nvPicPr>
        <p:blipFill>
          <a:blip r:embed="rId1"/>
          <a:stretch/>
        </p:blipFill>
        <p:spPr>
          <a:xfrm>
            <a:off x="1233360" y="1967040"/>
            <a:ext cx="6677280" cy="29239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2"/>
          <a:stretch/>
        </p:blipFill>
        <p:spPr>
          <a:xfrm>
            <a:off x="2340000" y="429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3"/>
          <a:stretch/>
        </p:blipFill>
        <p:spPr>
          <a:xfrm>
            <a:off x="6516720" y="4292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6" name="图片 1" descr=""/>
          <p:cNvPicPr/>
          <p:nvPr/>
        </p:nvPicPr>
        <p:blipFill>
          <a:blip r:embed="rId1"/>
          <a:stretch/>
        </p:blipFill>
        <p:spPr>
          <a:xfrm>
            <a:off x="114480" y="1114560"/>
            <a:ext cx="8915400" cy="46288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3"/>
          <a:stretch/>
        </p:blipFill>
        <p:spPr>
          <a:xfrm>
            <a:off x="118728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61880" y="1238400"/>
            <a:ext cx="8218440" cy="43812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755640" y="4091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128520" y="890640"/>
            <a:ext cx="8885160" cy="50767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2700360" y="37450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4500720" y="37591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2771640" y="45529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7885080" y="45370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6"/>
          <a:stretch/>
        </p:blipFill>
        <p:spPr>
          <a:xfrm>
            <a:off x="6227640" y="53150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7"/>
          <a:stretch/>
        </p:blipFill>
        <p:spPr>
          <a:xfrm>
            <a:off x="7885080" y="53150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3:26Z</dcterms:modified>
  <cp:revision>3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